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786-D65F-4588-B3CD-E17307F7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EE4-6F65-4CFB-928A-C0067212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A45-6CE7-49B5-8721-9327CEEF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E76-837E-40E5-94D9-73E8CBDD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A644-5373-409D-9361-0D95DF6A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91DD-235D-4DD5-A609-532E3ED5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7BD8-D0F0-4303-946C-CFD57AAB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8F9C-A193-496F-82F5-467E15EA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C5F3-1EF9-44C4-9E93-E1717CB0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E86B-81AC-42FF-BD4F-697678C6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B79D-01AC-46A9-984F-A0059E51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4C24-D34D-477D-96E0-C9010F84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E02C-1915-4578-A633-6904C7A8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F6C5-87B2-4DE4-ABD0-B6B34E6A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E726-BC16-4F6F-96DB-93EF47A8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5942-DBC4-493A-8F83-D51ADA18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48CF-FAB6-4A48-8006-15F77CB0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040A1-58EC-4008-824D-AA1110E6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32A9F-2869-4627-BAAE-4FD959B3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613B1-E8B1-44A2-9C6B-3183B60E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33D68-9379-448F-B9D0-26FDACF4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7F749-0366-4597-A4F8-1BF1466F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FA4-EDBA-4823-A744-70F775F3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62719-7E5D-4342-99A5-8F8325EC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5830B-2BF7-4842-A32C-62E6D111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231A5-FBDA-4475-9AD0-D7D002D5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59F13-CE8B-498C-9BA9-DDE51F82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BCE87-D54E-4D4F-9DA7-E53B664F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5362D-539F-4443-A6A4-3AEE6DAE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2B7CF-624B-4ACB-A266-C9006EF1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39302-E926-4208-8EC8-FB98A2A4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70C15-D047-458D-81E8-F4AC6287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C486F-CC4F-4DC8-8494-8B3CEC94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F4C3-7255-4570-AC2B-A5853268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B19DF-97B8-40CC-9AFB-A061DEA6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D7D56-2EAD-401C-9A0D-B7E38B02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6A423-03A9-43F1-A2C9-159459D1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6BB08-4806-4931-B893-AB3C844F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0C98D-5F68-4E5B-934B-065532F6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4730D-4E2E-4602-B5F4-3B9DD5CC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45C6E-C985-4904-A82F-A51CAB94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55DA4-D79E-4A6E-93F6-1E8DAB34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BA492-5A83-4DCD-B66C-47721573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FC72-5C72-4FC7-9D05-FE84322A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C344-E5A7-48D5-9166-388BDD96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147-1D5A-429D-8BF0-5BA93653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00E8-4FE6-43C9-BBA0-8AE7E8A5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F19-F982-4477-9F6A-7A41A3FF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0DB6-91A5-480A-9F24-2B007DFED0E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BFD9-277A-4984-8E1D-F906F98394C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ABAA-A058-4B50-94D5-50AC63B9093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DCE9-4F23-4C6B-8019-EEA9E00FCEA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719280"/>
            <a:ext cx="7864200" cy="201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3 Lab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Review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r loo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arget in object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the previous program to accept a list of numbers. Do a for loop to check whether each number in the list is positive, negative, or z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your program with check([-4,7,0,-1,9]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828800" y="1219320"/>
            <a:ext cx="457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 check(lis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in l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x&gt;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"Positiv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f (x&lt;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"Negativ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"Zero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the previous program to count the number of even numbers in the li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28600" y="114300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 check(list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=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x in li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(x&gt;0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=count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 "No. of positive numbers is ", 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thematical  oper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at x= 7, y =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x + y =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x-y = 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x*y = 1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x / y = 3  (because both of them are integer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7.0 / 2.0 =  7 / 2.0 = 7.0 / 2 = 3.5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 x % y = 1 (the reminder of the divis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d opera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ult in the reminder of the divi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2= 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%2 =1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% 3 =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% 3 =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% 3 =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know if y is divisible by x, check if  y % x =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is even if x % 2=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is odd if  x% 2 =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2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= z+ x  = 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+= x = 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z+x   is the same as   z+=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rameters pass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myFunc(name, ID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name, I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u execute myFunc in the black windo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Func(“John”, 2637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printList(myList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 in myLis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51640" indent="-2030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execute printList in the black windo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List([1,2,3]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List([7]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know the length of a list, use command len(myLis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printList(myList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“You passed”, len(myList), “ parameters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 in myLis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f-else condi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est1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1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f test2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3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P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orget : after the 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qual test, you must use “== “e.g. if x==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condition after el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0FFB-CF00-4DAE-A40E-EB417B00A5F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function that accepts a number x as a parameter and checks if this number if positive, negative, or z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before looking to answ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2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3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523880" y="1219320"/>
            <a:ext cx="4572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 check(x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(x&gt;0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t "Positiv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if (x&lt;0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t "Negativ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s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t "Zero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asaid</cp:lastModifiedBy>
  <dcterms:modified xsi:type="dcterms:W3CDTF">2009-03-23T22:19:24Z</dcterms:modified>
  <cp:revision>234</cp:revision>
  <dc:subject/>
  <dc:title>CPSC 203</dc:title>
</cp:coreProperties>
</file>